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EE3E9-462D-40D7-8E75-9F466957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FA193-2C03-4047-83D5-C4677E91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FFECB-44F3-49E7-B296-83227B7E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EABE2-AF2E-4140-A439-20569E89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E02B-DCC5-46DC-AA65-95CE6CCE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D634-092F-4508-B690-67C7620A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4D9A-4B60-44A7-9422-9CA3BA49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743C-CFCC-48BA-B31C-E241677D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0AEA-00EB-4F18-B487-CC2B1318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C2CA-0305-4898-9BF0-F654166D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FCE7-74E0-4CEA-A7A0-683A8F66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9F384-2E66-4AC1-B044-54E5809C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1849-80C4-4A85-8C86-A656A21C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0F09-0ED5-4CD5-A4F3-45DB51B2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23C1-5B59-4828-BD6E-9B748DDC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3F18-D37F-49A3-8E66-ECA3FD0D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DA0E-60E4-4C41-A3CB-9B99088D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EFDA7-DFF1-49B6-9E04-629A93A7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79256-6FD2-4AEF-8FC1-2B265CAD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EC9BC-7C09-4162-9773-4BBEA314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20D3B-BFF1-4F4C-AEC8-71237831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2EB75-E47A-42ED-8F57-31F35796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76B19-A725-44BE-8734-3F081B70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2F44F-708B-44E1-809B-8B769B32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74A7-DF0F-4421-A8A4-7D0E441910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1344-BDE9-4563-A844-07B708C337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tipuri de motoare termice exist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fos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ul de la maşin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funcţionează motor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e depinde funcţionarea motor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te feluri exis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defecte au motoar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este c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ăldura de la combustibili şi cum se dilată gazele dacă le încălzim şi se obţine lucru mecan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user</cp:lastModifiedBy>
  <dcterms:modified xsi:type="dcterms:W3CDTF">2010-06-03T08:00:58Z</dcterms:modified>
  <cp:revision>6</cp:revision>
  <dc:subject/>
  <dc:title>Petrolul mişcă omenirea</dc:title>
</cp:coreProperties>
</file>